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E22-B840-4CA9-A44C-89D9BD03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55D8-6DF8-4DD2-82DB-87E0363C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AA27-92A6-4E4D-8215-12954BA4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5B6-3C13-4ECD-81B9-CFCCFF08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3E6-3EA4-444F-8412-DA0D5ABB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92F2-3082-4591-8515-351D79C7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DF9B-A129-4A27-96DA-45E2AADF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ABC-3726-46A3-930D-321AEFAC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D97-595A-4F9F-897B-1BC8322D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1FF-FB0D-4831-BE2B-4F6BDE59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B76-A6D9-412B-AB29-F00D2C46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90A-A36C-43F1-87C5-2B1FD51C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88BB-099C-4366-8E17-59F243882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ance Dec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 of lambda, the distance decay parame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ly, and in keeping with Newton’s law of gravity, researchers have used 2.  But there is no clear theoretical reaso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lide shows how different values of lambda lead to faster/slower rates of distance dec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mbda represents the “friction” of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uld expect that lambda would be different for different types of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8077320" y="609480"/>
                <a:ext cx="7668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λ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7467480" y="1295280"/>
            <a:ext cx="3812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interaction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interaction is the flow of goods, people, information, etc. between two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generally, the interaction between two regions i and j is a function of the properties of regions i and j and the “distance” between the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vant properties may include number of jobs, number of destinations, square feet of retail space, population, incom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lman’s “Bases of Spatial Interac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096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lement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For two places to interact, one place must have a supply of an item for which there is an effective demand at the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ransf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Interaction occurs only when acceptable costs of an exchange ar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rvening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omplementarity can only be effective in the absence of more attractive sources of supply or demand closer at hand or che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spatial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vity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50, Henry C. Carey applied this law in social sciences in describing the interaction between two c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y mode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ity models are the most commonly known type of Spatial Interaction Model, based on Newtonian physic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itational force exerted between two bodies is a of the product of their masses over the distance between them squared, times the gravitational cons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551560" y="5029200"/>
                <a:ext cx="284148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y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wise, we can hypothesize that the number of job-trips between point A and B is a function of the population at A and the number of jobs at B and the distance between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209680" y="4876920"/>
                <a:ext cx="538344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ip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ob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,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y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specify the form more gener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ad this as the interaction T between places i (origin) and j (destination) is a function of a constant k, a measure of the “potential” p at place i and j, over distance raised to some power lambda, where alpha and beta are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438280" y="2362320"/>
                <a:ext cx="3353040" cy="19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β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,j</m:t>
                            </m:r>
                          </m:sub>
                          <m:sup>
                            <m:r>
                              <m:t xml:space="preserve">λ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y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approaches to “using” gravity mod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Use theory and generally accepted practice to predict flows between i and j, based on knowledge of Pi and P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Based on populations and jobs data, predict commuting flows between TA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A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Use data on actual flows to estimate empirically the parameters of a gravity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y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odeling cho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decay function.  Recall the denominator was specifi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“distance decay” because the interaction of two places “decays” with increased distance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362320" y="3276720"/>
                <a:ext cx="266688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β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,j</m:t>
                            </m:r>
                          </m:sub>
                          <m:sup>
                            <m:r>
                              <m:t xml:space="preserve">λ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886200" y="4038480"/>
            <a:ext cx="838080" cy="83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5720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5:55:21Z</dcterms:created>
  <dc:creator>GEO-01</dc:creator>
  <dc:description/>
  <dc:language>en-US</dc:language>
  <cp:lastModifiedBy>GEO-01</cp:lastModifiedBy>
  <dcterms:modified xsi:type="dcterms:W3CDTF">2011-10-12T06:21:46Z</dcterms:modified>
  <cp:revision>4</cp:revision>
  <dc:subject/>
  <dc:title>Slide 1</dc:title>
</cp:coreProperties>
</file>